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FFD-8F28-44A8-AF1E-4E2BFFB455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R- (Situation, Obstacle, Action, &amp; Resu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- (Situation, Task, Action, &amp; Resu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0% of job seekers carry thi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to all who interviewe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ask what the venue will be for your int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2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he Ins and Outs of Interviewing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ypes of Interview Question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havioral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These focus on your actions and/or behaviors in a previous set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behavior provides clues to future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cribe a time you had to make a difficult decis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ll me about a time you worked under a deadlin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do you do when a team member is not pulling his/her weigh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nk about a time you made a mistake. What did you learn from it?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ypes of Interview Question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appropriate or unethical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Questions which probe into your private life or personal back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Questions about your  ethnicity, religion, sexual orientation, disabilities, marital 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mpl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ou have childr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ou have a disabil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religion do you pract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ypes of Interview Question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stions asked by the interview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etermine if you are an appropriate fit for the company and position, prepare a list of questions for the inter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mple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type of assignments can I expect within the first yea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o you like most about this compan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biggest challenge facing this department right now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kills are you looking for in this posi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next course of ac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General Interview Strategi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Be prepared to talk about yourself and your exper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Master the art of storyt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Provide specific and concrete examples of your results/accomplish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main positive, enthusiastic, poised, and confident throughout the interview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General Interview Strategi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an interview is a formal conversation--avoid filler words like “Um”, “Ah”, &amp; “You know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indecisive phrases like: “I think,” “I guess,” “probably,” or “pretty goo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long verbose answers--limit your response to 1-2 min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do not hear or understand a question, ask them to repeat or clarify it for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General Interview Strategi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ain calm, relaxed, and be your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o focus on the message you are trying to convey--NOT how well you are do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04040" y="2057400"/>
            <a:ext cx="28587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Dressing for Success-Me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-Single or double breas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shed sh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 white shi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tive t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tly groomed hair, beard, and must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strong colognes, earrings, and body pier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02884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Dressing for Success-Wome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t or skirt 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mps with small to medium he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makeup, perfume, and jewel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neutral color hosi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good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the inter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 a business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quire about next steps in the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FOLLOW-UP CON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 a thank you note within 24 hou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ter may be handwritten or typed; e-mail is also accep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ilor each one to the individu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029200" y="281628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iewing-What is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A structured meeting between you and an emplo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viewing is a skill- like riding your bik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30880" y="2057400"/>
            <a:ext cx="140508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Final Thought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that only 15% of the success of an interview is out of your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some time to ref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Overall, how well did I d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What went well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What steps can I take next time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Suggestion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 a test run the day before the interview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e! Practice! Practic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a list of practice interview questions and jot down short 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 in front of a mirror and rehearse your 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e an appointment for a mock interview with Career Servi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a good night’s sleep-be well rested and alert for the inter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relaxed and be yourself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Interviewing is a two-way stree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loyers are attempting to determine if you are an appropriate fit for the job and their cul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decide if the environment is right for yo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3130560"/>
            <a:ext cx="3810240" cy="19670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ypes of Interview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: used as an initial screen of candidates or to narrow the pool of applic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-on-One: most common interview style and incorporates you with the potential emplo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el or Group: allows many individuals to interview you at o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: used to see how you interact or function in a social se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r On-site Interview: this allows one to get a tour of the facility, meet the staff, and additional questioning from different employees and/or adminis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Pre-Interview Preparatio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arch position, company, &amp; indust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self and be able to articulate skills, strengths, accomplishments, and 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necessary materials (Copies of resume, references, portfolio/pen, palm pilot or organizer, breath m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for directions and where to pa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Arriving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sure to allow yourself plenty of time to arrive at your destination (you may want to conduct a dry run prior to your interview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arrive 10-15 minutes early at the site to allow you to park, walk to the interview, use the restroom, or just gather yoursel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Greeting &amp; Introductio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1 chance to make a goo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r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ess appropri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 eye cont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m handsha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ain poised and confi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5103720" y="2057400"/>
            <a:ext cx="365940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7680" y="2203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Body Language: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What signals are you sending?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ve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ning forward = inter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iling = frien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ding = attentive and al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ye contact = curious and foc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ed arms = defens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dgeting hands or tapping feet = nervous or bo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eye contact = untrustwort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ning back= discomf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ypes of Interview Question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ard or tradition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ing your education, work experiences, and 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mple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 me about yourself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greatest strength? Weaknes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did you choose to interview with u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id you like most about your last job? Leas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are your short and long term career goa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4:05:41Z</dcterms:created>
  <dc:creator/>
  <dc:description/>
  <dc:language>en-US</dc:language>
  <cp:lastModifiedBy>system11</cp:lastModifiedBy>
  <dcterms:modified xsi:type="dcterms:W3CDTF">2008-10-31T18:05:43Z</dcterms:modified>
  <cp:revision>0</cp:revision>
  <dc:subject/>
  <dc:title/>
</cp:coreProperties>
</file>